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  <p:sldId id="286" r:id="rId63"/>
    <p:sldId id="28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slide" Target="slides/slide31.xml"/><Relationship Id="rId64" Type="http://schemas.openxmlformats.org/officeDocument/2006/relationships/slide" Target="slides/slide3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E8DF-5CF6-47F1-885A-C6E50AE3F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067E-2D2E-4007-B44B-01BBEF62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EB8AC-9541-48B1-8788-6A100C20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BA8B0D-83B0-48AD-89BD-3FE5D1E4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CB8026-A229-41C0-933C-843F7265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F8E238-54F4-459D-AEBA-AFFA889A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ABF067-CAEC-4503-99E4-8754C397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08016E-3311-4B00-837E-28F96336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4399F2-5D7D-4F16-BB38-AB255AEE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0C7A7-7343-430A-AF6D-91D8DF5E9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35E843-1715-4E32-92CD-8BFBF0EB6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107B29-87B5-4B08-BB8A-9CE312E3F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4B0C-33C2-47BE-81E1-0F5ACB4E5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7EFDCF-145D-463F-8CEA-190DAD2C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D8182D-FFAD-4150-AB72-593DA1EC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850346-B30C-4E1E-BD45-9186C83B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3EEBE6-EDD8-4A8F-AEE4-E467C56F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DBC6BF-321D-470C-9660-58760C4A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C443A5-624F-47F4-8C0F-52AB4D59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553E8C-CE75-4B1E-A7BA-89B83E74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7DC304-88E8-4598-B9A9-012BBD08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16D814-3BCD-4BB3-9936-94C675D9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BEAFCB-6017-401F-AB0A-C59EC9BCE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378D-B015-40A9-86CE-62223CFC7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DCBEBA-A744-4C42-9439-10F255A6E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607B36-1D3A-4135-8CA8-B8F467F68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627013-9397-4D55-B38E-CD8B1996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610EA-972A-43A9-B806-0780F8B5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C1D4B-95DB-445C-95F1-77A60515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948C80-690B-46E6-AD27-17D45390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58714-30C8-40AC-B443-8B802A96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5658A0-BA79-4288-911E-71262BD5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194515-0B4C-4C21-A255-A7D62DCB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F27C2-14C0-4B1E-92A5-F2CB8BB2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9FC5-0C90-4F70-90CE-33C3D4001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708B9-0B6E-4B7C-86B5-4E24E4AF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A593E0-51D9-4D1C-A6F7-6454AD0C1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92534-C1AF-41D6-A710-AAF42CB3A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50B507-8066-4D14-98F8-FC5A89E2B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697112-7906-4931-817C-A843F045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7D75AA-BA21-4C31-B2D2-06C7704F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6372B1-39BC-420E-A57C-DBFEA163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A31D29-FEB4-45BA-B57D-C9065184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67E554-04FC-411F-94A2-8DD359F0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6398E7-F802-4AD3-886D-1066B067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5A94-B78A-4C82-AEFF-130E64ED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D00144-47FC-4DD8-92D9-46A3FF68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25033B-58DA-4992-9837-F2EB1B95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06EF4A-31C8-453C-BC35-27CAC290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B2E774-1727-4D74-A6F7-8CF967D25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E2F7A5-36C7-42B7-83BE-3121A99EC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C5B224-1AFC-4850-AD64-7B0D654C5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D0B928-4A35-4D93-98F1-B730416E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F1DE62-70E6-47C6-AFDE-C6233DAA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9D9A4B-26EB-4B53-897A-49A6D858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7FE234-1EAD-4DF0-8B3A-2234037F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94F91-B3E0-4A4A-9263-BA1A5A24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97520C-400D-4CD9-8827-267DF047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C52273-4761-4F52-A4C9-7CBA4EF7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7B7065-758E-41C0-8F14-29FFE726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7780D8-042A-4AE9-8C27-882C4D34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3F63AB-7B16-4595-87F7-017C2149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EC72DF-CAED-49A4-9ADD-EE30EA8A1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A082F1-B148-4F49-B352-158C2E88F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729F15-8544-4B59-8B74-A9F08A11D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315A32-9135-4B3F-9D40-F990195A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1ED875-1A79-4C91-8EC6-0385789F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9DA8-67BE-4504-82BD-BCA3D90C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A76E77-3DA4-42B5-AE2B-4B52300B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945A4D-F8BE-4CFF-8753-28868CD1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50639D-D622-4789-88ED-93608E9F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C94E96-79FA-40AD-ACBA-4249F33B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ECEEEA-61FD-4591-A6B2-C055892E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C02E04-2691-43F9-BBC0-C0F1BD15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38B5A4-36E2-4E1F-AFEA-1B8ABA90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A6B359-450C-45C8-AD90-C930327D3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C57B13-4651-4284-8763-D8EA1B1E2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51A2CF-34EF-4109-9326-5C4B4DA27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392A7-554B-48BA-BC22-E0A1512E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97F651-F5D2-441C-9F6D-B4411447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AF8567-B4F7-4224-9E2C-7670B617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C74DE0-5A92-48F1-B269-75EE6223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C162F0-2FB0-409D-AD35-D7F6F3B0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2FC380-F405-4B64-A8EC-8892CC64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60BA08-4F2E-48A4-9C88-AEBE55AA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66C28C-FA96-4274-AAD6-1D2624CF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A0B9C3-3A3A-483D-BCF4-4CE8B165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9D3AA1-5DAE-4760-A944-C48EF94E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353CB5-1A4C-4D94-A785-D305269A8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E88C-6257-4C35-8C41-833B88F8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C974C7-0D9E-4AA0-B9E2-08C6DCEC1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D0FA61-E7B2-4B95-A644-3FFBA38DE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62EADC-7F41-4E5E-A3D4-507C6C1B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F35BD1-7401-4051-86E9-CE3D6506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52384E-DFD6-4ED9-9EB4-8C602E49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96A934-E8B4-45D0-9D6F-458EF41C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E16965-0192-4B9C-980F-36E53E52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F1CDA2-E280-43C3-A6D8-0CB9EAED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1A976D-C091-4966-9FF0-27A181FA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4A16DF-4D37-4FFA-B47B-BF8D7A8B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D5F1-EBA3-4256-AA8F-9780DE12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CACBE4-E149-4FD0-8E65-E3371A83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2F5BEC-7CC0-4FDA-9F6D-F5AAD0078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727B86-FF7F-428A-8AEA-4FAF5125E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488BC5-6A02-433D-B05E-63E11B8FB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00480C-C4BE-4CB9-8CE3-B18214A6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AA6955-5396-413C-A0DE-A169FEA1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AF2C3E-E9A2-4159-9141-E15FB780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6F8463-FBC6-42A4-B930-CC276289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9234E3-BE16-4DEB-9A4C-312CC90B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B619F4-D532-4D3A-91A3-53883B87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AB5D-00EC-4CB7-BEFF-5D24F4C0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D4A9-ECA9-41FD-AF0A-A5E8C90C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AB08C9-A716-400C-B2C5-CAD8F842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9014BE-C33A-480D-AEAC-B4BA85A9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CC5379-89FD-4B54-9586-E26D9242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1052DD-F9F4-4E9F-A60C-B641139D8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3E3FA7-5121-415C-AF4D-AE5B613BE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B4BA34-2180-4A7C-B3F9-BE4322375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D68EDA-51CB-4579-9B48-B0BAF18C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CD78CE-CBB0-490F-9021-BEC10C05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0BAF51-3A79-4CDD-B98A-40A1A128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FDB311-15DB-43AA-958F-8EBA9563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B014E-39AA-4541-AAB6-0944E46B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26D3B7-B48C-46D3-B4AE-C7279F15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B7D3C2-86AA-405B-8D37-931961B6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3361E3-2AD0-40C1-9344-B772B6E8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44DFF3-0D90-45B4-84D2-0535DABC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4AC120-9019-45DF-ACC8-C5A59FDD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4D1AC6-D23F-4467-805D-6F85CF3D6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2E0DBA-0402-4123-B905-00B8493CB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D54C16-6C43-4BF6-824F-B951D29B4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0BB963-6B5B-4CF3-AC47-FD14CD1B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F9E8C9-A59F-4013-8C98-AABCE18D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CE6E1-7C2D-41DF-A191-2E9D80ED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CF30E6-C4BE-4EE7-B8EE-975DF702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77D0EF-7FB8-49C9-9C4F-A0A2DD23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6362C3-9F42-485F-B324-0C4E7A6B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E846D0-D649-40A2-B14B-3E61B4F2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A33E45-07F0-478C-8F95-DB783B4D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26A724-7426-4E8C-A8D4-ACAF7C5C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6563DE-6E00-4FB1-9929-6F9541C1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5C296A-9503-4FCC-B6A2-111EDD486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ADBD14-E5C7-4095-BEC8-27C05D244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16AA92-21F3-41BA-A078-84E829C77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872C-FF02-4D88-B921-E235669DC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5E5FAF-5C0D-43ED-AB07-4408A5BD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84C2B1-48CC-42E6-86C7-2080B55F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515604-2EA1-4903-806B-462AE8A9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2AC6EE-A0AB-412E-B563-B6D0C690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BFD11B-1EC4-4571-B157-828B89F1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6401F7-1F8B-44DD-AE51-07DA25CB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E70EBE-4E1F-413D-8174-765F3033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8E7444-8C6E-41C2-B389-5893A3E1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C83299-FE2D-44A9-8844-AF6F16BB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9BCE60-07D3-42BC-91DE-4CBC5B3E6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27939-C8B1-45ED-8930-6FBBA32E6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90CED7-F13F-4E34-9A88-1AC8CE0F5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30788F-1789-409F-8F6D-F88B1751E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D8D7FE-B33B-4686-B5CB-648FD469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C150B0-3BC0-4030-8C57-5F297D64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0D1F4D-EB18-448D-8383-DF003285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BEF8C5-6EA1-43AC-A4FA-07057BD5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BB0FB5-1AB1-4144-93FC-979CA7CF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23F1D0-D681-45F5-B1E8-E861F39F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47A99D-EDBC-4AFB-A24A-642AB65F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4347C3-940D-4988-9586-956B8902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A51F4-9A54-4ABE-82EB-2814F5C62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4A0D4F-9DD5-427C-A766-39EEBB46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F7AABD-8FF0-44E8-9FF1-843D7C84F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C9C63F-4628-4576-9EBE-9E834E8CA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9D8AA4-1587-4276-A808-FD1B12FA0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39E7B3-FEA1-4523-8FC8-AC37E597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449B95-A4AD-44FD-A6B2-B735E936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E763C4-ED2C-4517-A2F0-0959EBD5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7EB133-5885-43BC-B10F-C5637039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7344D1-FD65-46F2-B053-06B70E0F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180CDC-F0C0-48DE-9A98-CD3B73E9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2CAEC-89D6-4046-A807-59E968FA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3DB768-7E57-40AB-A21F-364916FF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46DA7D-280D-4E88-97FB-863E5A74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9FE8FC-81D5-4BEF-8BDE-4630F2E9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AC4AA0-26C4-47C0-B7A5-4EEA74817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13E9BB-D8E9-4E46-A357-D78B08007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F207D3-1CC1-44E9-9975-B186279F8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DA2EBB-9260-4DE8-8535-5367ABD3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C88E75-22ED-40D5-B389-1DB8630E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089371-F202-4718-9542-2282A228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B1A377-1330-4C1F-83EE-7C750E78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CF0BE-D573-4EDA-9A6C-F9721138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55661C-635A-4DEB-94A9-A1315E1D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EAAA11-9A3E-44DB-9603-0463B3FB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AF2E54-5F40-437E-A28D-16F276A1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97CA52-96E8-4291-9684-44411AE6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F06F04-B54A-4AEA-83D5-A2D1B237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ECC098-DB5B-4B35-BF2B-5942DF3FC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A1F339-AEEC-4699-969B-8DF0ADED8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A842AC-5BB8-41FA-83A4-AB283A30E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B39E16-D6FF-408A-A0F2-A4D4C0C5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5C6AF5E-BB6E-4255-B7D5-607C5F81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2260A-EAA9-4CCF-B778-2E76E821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1184DA-2CA1-485F-BE32-02430FAB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E8A996-D5F9-4CDF-83E2-F9479746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A4595B-2572-47FB-9066-31A52582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7B1F0C-11CA-41AD-A517-5DA9CF67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612C457-7F6C-4D14-B570-044D7997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08D4AA-92CE-444A-9770-2C9132C0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6AB498D-F11A-4CDE-BED8-459D8D45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BF071FD-3E2D-4F90-B750-1E6F842B2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F6BBE0-5D5D-4695-BF03-4F6930310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7D89BF5-C40C-4AC7-A422-F7992AF4D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D8E45-AB52-4393-9A9E-D07BF607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7CE5896-98AF-4A55-A00E-7E13B265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FB4AF19-B624-4A6E-9453-1676E714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502BB4F-B34F-4F32-9827-B99A77A8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6D7552-95BE-4668-B4C1-80C0BF9B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4FCE56E-A521-4EBD-AE9A-E8A98B1B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0D2149E-7FA7-47D1-9C8D-BE92A291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D78DE2D-9677-46A0-BDED-84F84494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ABB4A39-6C09-4EC0-8CA6-3C99C10A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9A9D9B7-0F62-45D7-83BC-E7F32CB2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704B50C-515A-446F-A89C-34941BD12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F6F6-D0F2-417B-8C97-6B495C83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262D3-F4C0-4759-A420-883835E9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F408E0F-E979-441D-A296-51951DBAE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A39D693-8C16-4528-9688-E1E68C16A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B5D68E9-3814-487D-9C7E-21F5F0E3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6AC065C-AE65-4B6D-86CF-1EAC67BD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19D5784-4FCB-418F-B38C-FA902572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629C33E-FED9-4F1B-AFEB-CE1EC3ED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1D7CFAD-F401-43C1-9F45-CF739711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B008408-53EE-4110-8042-701A4676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ED67390-0778-497A-A91E-CCD3327C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336CC4A-706A-4466-87ED-83946C86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4334A-6CD1-47BD-80E7-40BF9189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E3B8E5D-A9E7-4DD0-8A25-8498F888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C7AFB90-830B-41CF-BF3F-31CFE40AF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99BC04A-6BE1-4D92-B058-B910BF169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C7FF7C5-0512-413C-82B9-F977AFF09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E31BF45-48E5-4406-BB8B-403810A9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CB5886D-CD4E-44E2-92D3-DE8A776A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35679EC-67C1-4A8E-8253-C6721461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7D50266-B4AB-491F-962B-56DA2318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9272F1D-798B-4C47-A08F-5BAEE78B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4591054-7E75-402C-8EC8-7824A45F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59F02-BDDA-4CC8-AD3B-0926D548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1E6F3DD-5B76-46F4-A535-180D3D4F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FDEDC1B-39E1-4278-BBDA-EC002477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1A54569-0327-47A8-9DB8-50018036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8570B81-CD22-406E-B5EF-5A80F349A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9534A5F-CA81-4451-9EF4-DAB8D968E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78E28F7-368E-46E0-8D08-A4D5CE34C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DA0A6E4-D0E0-4ADC-A477-C6950CD1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45304AA-AA31-4E21-BB19-602AF8E4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F73E1A0-F439-49ED-B8D3-637C2F3F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AE027D6-5A36-4BA7-8E82-DEB76474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9316A-2CE3-4ABC-9957-8287AA7B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F572AFF-E9EB-407E-8D97-851475EB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045B070-FE55-48F4-A8E3-06784224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CD017F9-99C6-4ED2-A4B1-63E07642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60B8646-37BE-4602-8BFC-1C52DEB3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4D64FF6-5FFC-465A-9212-4132EBE0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A3B8355-E98A-4600-9FAA-67A0A5621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1CF7543-919D-4532-A7C4-A29077FAA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F5919B4-D02B-4BB7-9B20-5EC790E10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E4BD144-8285-473D-AEAA-5F621DAC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0675A2D-3263-4C5F-B498-54C18285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F6E06-F952-4F11-B0E5-699D4E42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18B86F8-4A6C-4489-97E4-B45EEFEE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D429F9E-802C-4490-A619-14238A46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B887E60-2F9B-4C1B-A06E-B3C0A4A2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7A45D14-7A65-46CD-952C-0712081B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1314EE4-4520-4A69-81AC-73923639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49D69B7-7C2C-438F-8A86-C71FFF06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9BCE0BE-48B7-4C7B-9475-6887B3167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16254D1-ECB3-48D1-8EB6-371272BF7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D2C805B-9D42-4495-85B9-8F4510AB9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7D7A859-3F7A-459A-A7A0-7E896BAEE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59B7C-E2C7-45C6-9CBB-AE0399FE0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4D9C0C1-DAF4-41E2-8324-A22BC978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EF22011-8702-4050-B67C-82ECC72B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35E83EA-0E5B-4AA1-B943-9FA6445B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B268F5D-9FD7-4AF9-BFC4-658BCF0D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05C0757-8BC1-46DA-AE54-7BB11C43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F1958F5-39FD-4A9E-8BD7-BA9F86F4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204DC62-653B-40F9-A247-41FD42D7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2780237-6488-4710-A563-8814C8DE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2D2ED83-BF49-47A1-9E99-4DBAD907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C0F0280-6282-432D-B73F-FE8C65DEE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F148E-0E10-4A64-93CC-3F374CFF4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DB85BFF-D24C-4A0C-BACA-5FC35F512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1DA016F-61BE-4B5E-B3C1-2564CA497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3FF3981-5651-42F5-8F23-14C57CE5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A859D6D-45C4-4884-9D1E-62D247AF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100B7E9-17A5-4BD5-B3C8-728F8C7F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B479C8F-D6D8-4C34-8781-2E936BA2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8F86499-9114-4AD3-AC21-281847B4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9E2FC52-D78C-4165-9F88-48672207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42677BE-C2FD-4F63-B78F-1922D0FF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8EE6015-F073-40E5-AFA6-8B0742A3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B3407-D3E8-48E4-8D58-C3E0A8B26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A34CCB1-6265-4E24-9090-684EF269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DCCB80E-C9EA-4930-8AF5-E73D79D16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A2B1F0C-9891-4952-844A-DB2024958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E94CB-6430-4DC2-9EED-977A0C60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164CF-8CFB-4A2A-BC81-B8BA76CE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68DC-C045-45AB-BB0A-4F06803F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BAA34-FF29-4CA4-9DB3-3C00C376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120BD-601F-44F8-8916-EA5A1D75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F9F63-9882-46B4-9BB1-C6A42380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D8A06-EDA5-4743-8838-D2C142B5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72972-16A5-4A1D-B92F-108492F7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95213-2B61-4509-92B7-7DA18076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A1C2D-8944-44B2-AF95-18FECD10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EDC55-D115-4532-9E14-6F05FDD1C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4B9BF-F95B-4BDE-A504-831BD3C81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8AC6C-B654-4C67-9D28-7F813CAE5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98F0-E79E-4144-B6E6-0EE2CCDF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6571B-170D-41CF-BF06-E16815F8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BF547-0772-42F9-8AB7-AA42237A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791A9-52D5-43CF-B27B-36266D3B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DCE97-9ECF-496B-B519-A72935DE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568E4-9DD1-424D-A923-62A0EE45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C53B5-D9D7-4330-91C5-7AE0D6D1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AA668-9D6F-4829-8E10-32B5881A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71D3A-334E-4541-8B78-71D4EA0D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E4CF2-A862-4447-9329-62D2DD0D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47E3A-454B-49ED-9E37-1F180ECD6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7E23-EA82-4510-B024-0FE133CF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7A2FB-5AF1-4695-A987-18BE70EDC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6A293-8388-4E57-8823-E488C43EE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33113-2D51-43BC-88B0-D7A38160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060C6-BC70-4CFE-8FC0-A5D53963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AA25E-4340-4F79-98C0-EAF43C6C1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7541A-D427-4D9B-9A35-8AB4FA91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BF224-2BD7-47C6-B18B-53283546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76FF1-2A92-4AC2-A8C5-FA40AB8A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76080-09A9-40A4-B8F1-FAA1F1B9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7FA39-7640-4112-9CE2-18BA7400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1C8D-A030-4DCA-83E2-F594ABE5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C1276-036D-4FD9-B717-A72730FA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7544B-0276-43AA-BDCA-CEF94C93A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FC637-5DAD-4AB2-A000-32E48EB46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23BC1-8CE1-4A3E-B1AA-005A3729B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42C41-9F7A-4DF2-B50F-053FA6D6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5FF44-818F-464C-8E62-3170EE39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599C8-1E89-464D-BF4E-C0113A5B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3F77F-F9BC-48B2-9F1D-4F779BB3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8CB55-BB57-4A00-8DF0-400DC9F7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6F3F3-31A3-46B6-8A86-DD423155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297F-247D-4454-B304-1F6DA7DF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A0CCA-2E24-470A-B9A4-2BE09108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F99D0-33BA-4AE8-ACFE-219A437E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1DF27-41CE-4224-8BBF-A6812CAC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848B9-7ED8-47CC-8DF7-C989D9DCA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68888-49ED-4254-A023-60CCD20EA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AD6E1-FCEF-479F-8BA9-B211CC436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0BBD0-E59F-454E-ABB3-F4E90C8D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2F6C2-0370-4D7D-BF98-FAC723E5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1C522-C33A-4206-9A1F-61E99D8E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A6AB3-DCD9-4DD7-8B19-BAD6A0B1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BC90-9351-4A58-A6C5-F0F63F9D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B15BD-C018-479E-9EC2-816EDBC4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AB083-1073-4F78-933D-576A9FE7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F8601-D4FF-481F-A474-6C4A985D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50D7F-B511-4FDB-9811-D231B4B8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0AD5F-3998-4422-8363-36ED35C7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ADA22-11EF-4515-B065-9BDAAF9A5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A741E-C992-4D24-82F0-20F11BC61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81FFA7-7781-44D9-B94B-C252A8A89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34E8E1-76DF-470B-BBA0-22437D40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A7FC29-13A0-4FFE-AF78-C68AC5AD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3DE6-A121-4398-AE45-4EC7B1858D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96EA-38B5-41F5-B6C8-D936BB6865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E62D-044A-4AFD-ADEF-B3F8B7170A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5821-E680-416D-BCE0-5FE432FF72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35E3-E593-4E29-9E66-4C7AA3C8FBE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53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FA11-7E3C-4D72-8B12-9D5653677D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046D-4927-4D3B-B181-7B62067248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31EE-B0D9-42FA-A54B-C82CF9DC2F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CEB3-AFF2-460B-9E09-CA431D2510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7C64-C22C-48D3-882E-6DC10E0805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E0AD-C0A9-4491-B10A-F3599F4529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7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60D1-8C42-40AD-93B2-2891DDFC17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9D57-1C9A-4F2D-8724-A2982B4660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1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436F-78E6-4FC8-8CBC-22C03A00A7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86A5-868C-4A28-8F7A-AE63171A60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75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FF6D-BF26-4F4B-8889-803516EC3D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3510-3B72-46F6-8F09-BD2273450A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4723-14FB-4DB9-A224-DCAB2DB1E4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82C8-0290-46B1-8F6B-2C6A406EC9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8DEF-2996-44CE-92D6-60798A8A6D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507F-FBE9-4FA0-9849-941432FEAA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93C1-68A3-40B1-8854-C70F347D93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F3AB-FC86-44F7-81E9-227AEE336D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592E-1267-4947-8BB0-CEA1E0A2D5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B539-E1F1-4EA7-ADB9-A3EF29FD1E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6E58-3EBA-4A8F-89CA-47BD879A09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2348-F08F-4C21-8AF1-FFC0A42711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97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7386-EA5F-411F-9F92-3E4CEE0842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85D50-82A1-428F-A12F-E06CC3329F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2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6B67-A429-47A1-ABFC-C290BB6CAA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BB7F-0065-43F1-ACE8-7E1EAD0829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80E6-1CC2-4A49-9760-3102B7A336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6883-BBF5-46CD-A9D1-D8F79807DF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5711-DC4D-489F-92DC-FD360343B4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75FC-D872-4A2F-961F-AE33FB4F92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5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F6DC-CFDF-4692-B2DC-F1E92984C1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94EE-AAAE-4CAF-9EFF-EEBE6BC9BF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9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6CE5-D148-4C6B-A035-FB4C3A33CD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4D9E-74F5-4742-9CC3-A6B6DA127A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CABC-D828-4307-85D4-3508B22AE7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24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8FA6-0A32-4A77-A95D-A68CC7AFE1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EC1F-5636-48C7-BE08-2BF0729B1F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128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FC25-F9D7-4659-805B-A615B4F603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84F9-B3F2-41EA-9F57-1B2BADE264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1C04-5780-437B-A995-CD5BC40776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96AC-C268-49AD-ABD4-429D4E71D5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016A-B107-4F40-959F-F81E876FC4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50D0-7EBA-4AC8-9B1C-3BBEC05FC4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9369-F438-4787-B040-24867740C5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171C-0212-4C01-8C16-A277411E0B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图片 40984" descr=""/>
          <p:cNvPicPr/>
          <p:nvPr/>
        </p:nvPicPr>
        <p:blipFill>
          <a:blip r:embed="rId1"/>
          <a:stretch/>
        </p:blipFill>
        <p:spPr>
          <a:xfrm>
            <a:off x="1943280" y="1143000"/>
            <a:ext cx="5105160" cy="380880"/>
          </a:xfrm>
          <a:prstGeom prst="rect">
            <a:avLst/>
          </a:prstGeom>
          <a:ln w="0">
            <a:noFill/>
          </a:ln>
        </p:spPr>
      </p:pic>
      <p:pic>
        <p:nvPicPr>
          <p:cNvPr id="1332" name="图片 40985" descr=""/>
          <p:cNvPicPr/>
          <p:nvPr/>
        </p:nvPicPr>
        <p:blipFill>
          <a:blip r:embed="rId2"/>
          <a:stretch/>
        </p:blipFill>
        <p:spPr>
          <a:xfrm>
            <a:off x="2843280" y="3370320"/>
            <a:ext cx="3076560" cy="2047680"/>
          </a:xfrm>
          <a:prstGeom prst="rect">
            <a:avLst/>
          </a:prstGeom>
          <a:ln w="0">
            <a:noFill/>
          </a:ln>
        </p:spPr>
      </p:pic>
      <p:sp>
        <p:nvSpPr>
          <p:cNvPr id="1333" name="矩形 40986"/>
          <p:cNvSpPr/>
          <p:nvPr/>
        </p:nvSpPr>
        <p:spPr>
          <a:xfrm>
            <a:off x="3954600" y="4645080"/>
            <a:ext cx="208584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矩形 40987"/>
          <p:cNvSpPr/>
          <p:nvPr/>
        </p:nvSpPr>
        <p:spPr>
          <a:xfrm>
            <a:off x="2773440" y="4911840"/>
            <a:ext cx="319572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矩形 40988"/>
          <p:cNvSpPr/>
          <p:nvPr/>
        </p:nvSpPr>
        <p:spPr>
          <a:xfrm>
            <a:off x="2681280" y="5157720"/>
            <a:ext cx="319572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3" name="图片 132097" descr=""/>
          <p:cNvPicPr/>
          <p:nvPr/>
        </p:nvPicPr>
        <p:blipFill>
          <a:blip r:embed="rId1"/>
          <a:stretch/>
        </p:blipFill>
        <p:spPr>
          <a:xfrm>
            <a:off x="141120" y="901800"/>
            <a:ext cx="8124840" cy="3733560"/>
          </a:xfrm>
          <a:prstGeom prst="rect">
            <a:avLst/>
          </a:prstGeom>
          <a:ln w="0">
            <a:noFill/>
          </a:ln>
        </p:spPr>
      </p:pic>
      <p:sp>
        <p:nvSpPr>
          <p:cNvPr id="1374" name="矩形 132098"/>
          <p:cNvSpPr/>
          <p:nvPr/>
        </p:nvSpPr>
        <p:spPr>
          <a:xfrm>
            <a:off x="801720" y="2055960"/>
            <a:ext cx="637056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矩形 132099"/>
          <p:cNvSpPr/>
          <p:nvPr/>
        </p:nvSpPr>
        <p:spPr>
          <a:xfrm>
            <a:off x="647640" y="2558880"/>
            <a:ext cx="637056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矩形 132100"/>
          <p:cNvSpPr/>
          <p:nvPr/>
        </p:nvSpPr>
        <p:spPr>
          <a:xfrm>
            <a:off x="615960" y="3124080"/>
            <a:ext cx="637056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矩形 132101"/>
          <p:cNvSpPr/>
          <p:nvPr/>
        </p:nvSpPr>
        <p:spPr>
          <a:xfrm>
            <a:off x="574560" y="3638520"/>
            <a:ext cx="637092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矩形 132102"/>
          <p:cNvSpPr/>
          <p:nvPr/>
        </p:nvSpPr>
        <p:spPr>
          <a:xfrm>
            <a:off x="606600" y="4173480"/>
            <a:ext cx="637056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9" name="图片 131073" descr=""/>
          <p:cNvPicPr/>
          <p:nvPr/>
        </p:nvPicPr>
        <p:blipFill>
          <a:blip r:embed="rId1"/>
          <a:stretch/>
        </p:blipFill>
        <p:spPr>
          <a:xfrm>
            <a:off x="201600" y="695160"/>
            <a:ext cx="8105760" cy="61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图片 130049" descr=""/>
          <p:cNvPicPr/>
          <p:nvPr/>
        </p:nvPicPr>
        <p:blipFill>
          <a:blip r:embed="rId1"/>
          <a:stretch/>
        </p:blipFill>
        <p:spPr>
          <a:xfrm>
            <a:off x="706320" y="828720"/>
            <a:ext cx="7477200" cy="5657760"/>
          </a:xfrm>
          <a:prstGeom prst="rect">
            <a:avLst/>
          </a:prstGeom>
          <a:ln w="0">
            <a:noFill/>
          </a:ln>
        </p:spPr>
      </p:pic>
      <p:sp>
        <p:nvSpPr>
          <p:cNvPr id="1381" name="矩形 130050"/>
          <p:cNvSpPr/>
          <p:nvPr/>
        </p:nvSpPr>
        <p:spPr>
          <a:xfrm>
            <a:off x="687240" y="2023920"/>
            <a:ext cx="773604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矩形 130051"/>
          <p:cNvSpPr/>
          <p:nvPr/>
        </p:nvSpPr>
        <p:spPr>
          <a:xfrm>
            <a:off x="593640" y="2568600"/>
            <a:ext cx="773604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矩形 130052"/>
          <p:cNvSpPr/>
          <p:nvPr/>
        </p:nvSpPr>
        <p:spPr>
          <a:xfrm>
            <a:off x="625320" y="3205080"/>
            <a:ext cx="773604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矩形 130053"/>
          <p:cNvSpPr/>
          <p:nvPr/>
        </p:nvSpPr>
        <p:spPr>
          <a:xfrm>
            <a:off x="636480" y="3801960"/>
            <a:ext cx="773604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矩形 130054"/>
          <p:cNvSpPr/>
          <p:nvPr/>
        </p:nvSpPr>
        <p:spPr>
          <a:xfrm>
            <a:off x="647640" y="4367160"/>
            <a:ext cx="773604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矩形 130055"/>
          <p:cNvSpPr/>
          <p:nvPr/>
        </p:nvSpPr>
        <p:spPr>
          <a:xfrm>
            <a:off x="596880" y="4962600"/>
            <a:ext cx="773604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矩形 130056"/>
          <p:cNvSpPr/>
          <p:nvPr/>
        </p:nvSpPr>
        <p:spPr>
          <a:xfrm>
            <a:off x="617400" y="5538960"/>
            <a:ext cx="7736040" cy="37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矩形 130057"/>
          <p:cNvSpPr/>
          <p:nvPr/>
        </p:nvSpPr>
        <p:spPr>
          <a:xfrm>
            <a:off x="585720" y="6094440"/>
            <a:ext cx="773604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1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10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10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10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10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9" name="图片 129025" descr=""/>
          <p:cNvPicPr/>
          <p:nvPr/>
        </p:nvPicPr>
        <p:blipFill>
          <a:blip r:embed="rId1"/>
          <a:stretch/>
        </p:blipFill>
        <p:spPr>
          <a:xfrm>
            <a:off x="372960" y="939960"/>
            <a:ext cx="8067600" cy="5638680"/>
          </a:xfrm>
          <a:prstGeom prst="rect">
            <a:avLst/>
          </a:prstGeom>
          <a:ln w="0">
            <a:noFill/>
          </a:ln>
        </p:spPr>
      </p:pic>
      <p:sp>
        <p:nvSpPr>
          <p:cNvPr id="1390" name="矩形 129026"/>
          <p:cNvSpPr/>
          <p:nvPr/>
        </p:nvSpPr>
        <p:spPr>
          <a:xfrm>
            <a:off x="923760" y="3247920"/>
            <a:ext cx="569124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矩形 129027"/>
          <p:cNvSpPr/>
          <p:nvPr/>
        </p:nvSpPr>
        <p:spPr>
          <a:xfrm>
            <a:off x="861840" y="3895560"/>
            <a:ext cx="569124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矩形 129028"/>
          <p:cNvSpPr/>
          <p:nvPr/>
        </p:nvSpPr>
        <p:spPr>
          <a:xfrm>
            <a:off x="912960" y="4408560"/>
            <a:ext cx="667836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矩形 129029"/>
          <p:cNvSpPr/>
          <p:nvPr/>
        </p:nvSpPr>
        <p:spPr>
          <a:xfrm>
            <a:off x="851040" y="5086440"/>
            <a:ext cx="667836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矩形 129030"/>
          <p:cNvSpPr/>
          <p:nvPr/>
        </p:nvSpPr>
        <p:spPr>
          <a:xfrm>
            <a:off x="871560" y="5611680"/>
            <a:ext cx="667872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矩形 129031"/>
          <p:cNvSpPr/>
          <p:nvPr/>
        </p:nvSpPr>
        <p:spPr>
          <a:xfrm>
            <a:off x="861840" y="6175440"/>
            <a:ext cx="667872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10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10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3" dur="10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10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10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8" dur="10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6" name="图片 128001" descr=""/>
          <p:cNvPicPr/>
          <p:nvPr/>
        </p:nvPicPr>
        <p:blipFill>
          <a:blip r:embed="rId1"/>
          <a:stretch/>
        </p:blipFill>
        <p:spPr>
          <a:xfrm>
            <a:off x="874800" y="900000"/>
            <a:ext cx="5743440" cy="2238480"/>
          </a:xfrm>
          <a:prstGeom prst="rect">
            <a:avLst/>
          </a:prstGeom>
          <a:ln w="0">
            <a:noFill/>
          </a:ln>
        </p:spPr>
      </p:pic>
      <p:sp>
        <p:nvSpPr>
          <p:cNvPr id="1397" name="矩形 128002"/>
          <p:cNvSpPr/>
          <p:nvPr/>
        </p:nvSpPr>
        <p:spPr>
          <a:xfrm>
            <a:off x="944640" y="893880"/>
            <a:ext cx="559116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矩形 128003"/>
          <p:cNvSpPr/>
          <p:nvPr/>
        </p:nvSpPr>
        <p:spPr>
          <a:xfrm>
            <a:off x="790560" y="1530360"/>
            <a:ext cx="559116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矩形 128004"/>
          <p:cNvSpPr/>
          <p:nvPr/>
        </p:nvSpPr>
        <p:spPr>
          <a:xfrm>
            <a:off x="861840" y="2033640"/>
            <a:ext cx="559152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矩形 128005"/>
          <p:cNvSpPr/>
          <p:nvPr/>
        </p:nvSpPr>
        <p:spPr>
          <a:xfrm>
            <a:off x="892080" y="2619360"/>
            <a:ext cx="55911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10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10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5" dur="10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0" dur="10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6" name="图片 140289" descr=""/>
          <p:cNvPicPr/>
          <p:nvPr/>
        </p:nvPicPr>
        <p:blipFill>
          <a:blip r:embed="rId1"/>
          <a:stretch/>
        </p:blipFill>
        <p:spPr>
          <a:xfrm>
            <a:off x="311040" y="890640"/>
            <a:ext cx="8496360" cy="4238640"/>
          </a:xfrm>
          <a:prstGeom prst="rect">
            <a:avLst/>
          </a:prstGeom>
          <a:ln w="0">
            <a:noFill/>
          </a:ln>
        </p:spPr>
      </p:pic>
      <p:sp>
        <p:nvSpPr>
          <p:cNvPr id="1337" name="矩形 140290"/>
          <p:cNvSpPr/>
          <p:nvPr/>
        </p:nvSpPr>
        <p:spPr>
          <a:xfrm>
            <a:off x="5640480" y="2147760"/>
            <a:ext cx="56520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矩形 140291"/>
          <p:cNvSpPr/>
          <p:nvPr/>
        </p:nvSpPr>
        <p:spPr>
          <a:xfrm>
            <a:off x="1459080" y="3471840"/>
            <a:ext cx="15825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矩形 140292"/>
          <p:cNvSpPr/>
          <p:nvPr/>
        </p:nvSpPr>
        <p:spPr>
          <a:xfrm>
            <a:off x="4603680" y="3903840"/>
            <a:ext cx="2157480" cy="245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矩形 140293"/>
          <p:cNvSpPr/>
          <p:nvPr/>
        </p:nvSpPr>
        <p:spPr>
          <a:xfrm>
            <a:off x="7264440" y="3903840"/>
            <a:ext cx="1520640" cy="245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矩形 140294"/>
          <p:cNvSpPr/>
          <p:nvPr/>
        </p:nvSpPr>
        <p:spPr>
          <a:xfrm>
            <a:off x="1233360" y="4346640"/>
            <a:ext cx="1766880" cy="245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矩形 140296"/>
          <p:cNvSpPr/>
          <p:nvPr/>
        </p:nvSpPr>
        <p:spPr>
          <a:xfrm>
            <a:off x="5157720" y="4778280"/>
            <a:ext cx="56520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3" name="图片 139265" descr=""/>
          <p:cNvPicPr/>
          <p:nvPr/>
        </p:nvPicPr>
        <p:blipFill>
          <a:blip r:embed="rId1"/>
          <a:stretch/>
        </p:blipFill>
        <p:spPr>
          <a:xfrm>
            <a:off x="365040" y="942840"/>
            <a:ext cx="8515440" cy="3753000"/>
          </a:xfrm>
          <a:prstGeom prst="rect">
            <a:avLst/>
          </a:prstGeom>
          <a:ln w="0">
            <a:noFill/>
          </a:ln>
        </p:spPr>
      </p:pic>
      <p:sp>
        <p:nvSpPr>
          <p:cNvPr id="1344" name="矩形 139266"/>
          <p:cNvSpPr/>
          <p:nvPr/>
        </p:nvSpPr>
        <p:spPr>
          <a:xfrm>
            <a:off x="8291520" y="21891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矩形 139267"/>
          <p:cNvSpPr/>
          <p:nvPr/>
        </p:nvSpPr>
        <p:spPr>
          <a:xfrm>
            <a:off x="8291520" y="3535200"/>
            <a:ext cx="360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6" name="图片 138241" descr=""/>
          <p:cNvPicPr/>
          <p:nvPr/>
        </p:nvPicPr>
        <p:blipFill>
          <a:blip r:embed="rId1"/>
          <a:stretch/>
        </p:blipFill>
        <p:spPr>
          <a:xfrm>
            <a:off x="384120" y="865080"/>
            <a:ext cx="8553600" cy="3857760"/>
          </a:xfrm>
          <a:prstGeom prst="rect">
            <a:avLst/>
          </a:prstGeom>
          <a:ln w="0">
            <a:noFill/>
          </a:ln>
        </p:spPr>
      </p:pic>
      <p:sp>
        <p:nvSpPr>
          <p:cNvPr id="1347" name="矩形 138242"/>
          <p:cNvSpPr/>
          <p:nvPr/>
        </p:nvSpPr>
        <p:spPr>
          <a:xfrm>
            <a:off x="7365960" y="175752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矩形 138243"/>
          <p:cNvSpPr/>
          <p:nvPr/>
        </p:nvSpPr>
        <p:spPr>
          <a:xfrm>
            <a:off x="2690640" y="2590920"/>
            <a:ext cx="17780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矩形 138244"/>
          <p:cNvSpPr/>
          <p:nvPr/>
        </p:nvSpPr>
        <p:spPr>
          <a:xfrm>
            <a:off x="5629320" y="2590920"/>
            <a:ext cx="27939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矩形 138245"/>
          <p:cNvSpPr/>
          <p:nvPr/>
        </p:nvSpPr>
        <p:spPr>
          <a:xfrm>
            <a:off x="2928960" y="3494160"/>
            <a:ext cx="1440000" cy="245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矩形 138246"/>
          <p:cNvSpPr/>
          <p:nvPr/>
        </p:nvSpPr>
        <p:spPr>
          <a:xfrm>
            <a:off x="4273560" y="4346640"/>
            <a:ext cx="576360" cy="245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2" name="图片 137217" descr=""/>
          <p:cNvPicPr/>
          <p:nvPr/>
        </p:nvPicPr>
        <p:blipFill>
          <a:blip r:embed="rId1"/>
          <a:stretch/>
        </p:blipFill>
        <p:spPr>
          <a:xfrm>
            <a:off x="485640" y="898560"/>
            <a:ext cx="5048280" cy="3409920"/>
          </a:xfrm>
          <a:prstGeom prst="rect">
            <a:avLst/>
          </a:prstGeom>
          <a:ln w="0">
            <a:noFill/>
          </a:ln>
        </p:spPr>
      </p:pic>
      <p:sp>
        <p:nvSpPr>
          <p:cNvPr id="1353" name="矩形 137218"/>
          <p:cNvSpPr/>
          <p:nvPr/>
        </p:nvSpPr>
        <p:spPr>
          <a:xfrm>
            <a:off x="781200" y="2189160"/>
            <a:ext cx="48718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矩形 137219"/>
          <p:cNvSpPr/>
          <p:nvPr/>
        </p:nvSpPr>
        <p:spPr>
          <a:xfrm>
            <a:off x="728640" y="2620800"/>
            <a:ext cx="48722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矩形 137220"/>
          <p:cNvSpPr/>
          <p:nvPr/>
        </p:nvSpPr>
        <p:spPr>
          <a:xfrm>
            <a:off x="677880" y="3062160"/>
            <a:ext cx="487188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矩形 137221"/>
          <p:cNvSpPr/>
          <p:nvPr/>
        </p:nvSpPr>
        <p:spPr>
          <a:xfrm>
            <a:off x="873000" y="3535200"/>
            <a:ext cx="48722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矩形 137222"/>
          <p:cNvSpPr/>
          <p:nvPr/>
        </p:nvSpPr>
        <p:spPr>
          <a:xfrm>
            <a:off x="944640" y="3895560"/>
            <a:ext cx="268272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8" name="图片 136193" descr=""/>
          <p:cNvPicPr/>
          <p:nvPr/>
        </p:nvPicPr>
        <p:blipFill>
          <a:blip r:embed="rId1"/>
          <a:stretch/>
        </p:blipFill>
        <p:spPr>
          <a:xfrm>
            <a:off x="270000" y="833400"/>
            <a:ext cx="8020080" cy="5724720"/>
          </a:xfrm>
          <a:prstGeom prst="rect">
            <a:avLst/>
          </a:prstGeom>
          <a:ln w="0">
            <a:noFill/>
          </a:ln>
        </p:spPr>
      </p:pic>
      <p:sp>
        <p:nvSpPr>
          <p:cNvPr id="1359" name="矩形 136194"/>
          <p:cNvSpPr/>
          <p:nvPr/>
        </p:nvSpPr>
        <p:spPr>
          <a:xfrm>
            <a:off x="7572240" y="254808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矩形 136195"/>
          <p:cNvSpPr/>
          <p:nvPr/>
        </p:nvSpPr>
        <p:spPr>
          <a:xfrm>
            <a:off x="7572240" y="467532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1" name="图片 135169" descr=""/>
          <p:cNvPicPr/>
          <p:nvPr/>
        </p:nvPicPr>
        <p:blipFill>
          <a:blip r:embed="rId1"/>
          <a:stretch/>
        </p:blipFill>
        <p:spPr>
          <a:xfrm>
            <a:off x="177840" y="909720"/>
            <a:ext cx="8001000" cy="5038560"/>
          </a:xfrm>
          <a:prstGeom prst="rect">
            <a:avLst/>
          </a:prstGeom>
          <a:ln w="0">
            <a:noFill/>
          </a:ln>
        </p:spPr>
      </p:pic>
      <p:sp>
        <p:nvSpPr>
          <p:cNvPr id="1362" name="矩形 135170"/>
          <p:cNvSpPr/>
          <p:nvPr/>
        </p:nvSpPr>
        <p:spPr>
          <a:xfrm>
            <a:off x="7426440" y="14889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矩形 135171"/>
          <p:cNvSpPr/>
          <p:nvPr/>
        </p:nvSpPr>
        <p:spPr>
          <a:xfrm>
            <a:off x="3182760" y="3092400"/>
            <a:ext cx="36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矩形 135172"/>
          <p:cNvSpPr/>
          <p:nvPr/>
        </p:nvSpPr>
        <p:spPr>
          <a:xfrm>
            <a:off x="2062080" y="5527800"/>
            <a:ext cx="8240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5" name="图片 134145" descr=""/>
          <p:cNvPicPr/>
          <p:nvPr/>
        </p:nvPicPr>
        <p:blipFill>
          <a:blip r:embed="rId1"/>
          <a:stretch/>
        </p:blipFill>
        <p:spPr>
          <a:xfrm>
            <a:off x="88920" y="912960"/>
            <a:ext cx="7848720" cy="4905360"/>
          </a:xfrm>
          <a:prstGeom prst="rect">
            <a:avLst/>
          </a:prstGeom>
          <a:ln w="0">
            <a:noFill/>
          </a:ln>
        </p:spPr>
      </p:pic>
      <p:sp>
        <p:nvSpPr>
          <p:cNvPr id="1366" name="矩形 134146"/>
          <p:cNvSpPr/>
          <p:nvPr/>
        </p:nvSpPr>
        <p:spPr>
          <a:xfrm>
            <a:off x="1192320" y="1994040"/>
            <a:ext cx="48816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矩形 134147"/>
          <p:cNvSpPr/>
          <p:nvPr/>
        </p:nvSpPr>
        <p:spPr>
          <a:xfrm>
            <a:off x="1273320" y="2527200"/>
            <a:ext cx="488124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矩形 134148"/>
          <p:cNvSpPr/>
          <p:nvPr/>
        </p:nvSpPr>
        <p:spPr>
          <a:xfrm>
            <a:off x="1066680" y="4530600"/>
            <a:ext cx="6658200" cy="709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矩形 134149"/>
          <p:cNvSpPr/>
          <p:nvPr/>
        </p:nvSpPr>
        <p:spPr>
          <a:xfrm>
            <a:off x="1209600" y="5384880"/>
            <a:ext cx="48816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0" name="图片 133121" descr=""/>
          <p:cNvPicPr/>
          <p:nvPr/>
        </p:nvPicPr>
        <p:blipFill>
          <a:blip r:embed="rId1"/>
          <a:stretch/>
        </p:blipFill>
        <p:spPr>
          <a:xfrm>
            <a:off x="614520" y="858960"/>
            <a:ext cx="7457760" cy="2676240"/>
          </a:xfrm>
          <a:prstGeom prst="rect">
            <a:avLst/>
          </a:prstGeom>
          <a:ln w="0">
            <a:noFill/>
          </a:ln>
        </p:spPr>
      </p:pic>
      <p:sp>
        <p:nvSpPr>
          <p:cNvPr id="1371" name="矩形 133122"/>
          <p:cNvSpPr/>
          <p:nvPr/>
        </p:nvSpPr>
        <p:spPr>
          <a:xfrm>
            <a:off x="1098720" y="1757520"/>
            <a:ext cx="7029360" cy="73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矩形 133123"/>
          <p:cNvSpPr/>
          <p:nvPr/>
        </p:nvSpPr>
        <p:spPr>
          <a:xfrm>
            <a:off x="2259000" y="2701800"/>
            <a:ext cx="322740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30T08:27:09Z</dcterms:modified>
  <cp:revision>7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